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.gif" ContentType="image/gif"/>
  <Override PartName="/ppt/media/image3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2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865-DE0B-42FD-B725-9D1D234F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836-8A8D-44E0-9920-5A3B9C18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951-693D-4FF5-AD33-E7C72F37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AED-E4BE-4BDB-8C31-7226E27A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999D-C958-4BC1-ABA8-F9E2D6E6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8EC8-8793-413E-A393-BED7E097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316D-01EB-48DB-8DAB-979B7D43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A48F-0221-4990-A59A-09B46750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E6EB-B24C-4FE2-9720-2125D7D1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6C1E-619A-470F-935D-01AA28FF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90F2-4865-47BC-9019-872BE8E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6D7-6E7B-45E8-B15D-1860BD6D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98D2-D34A-453A-A8D4-9A71AEB2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DF7A-FCA2-4E24-BA6C-AEB9D8B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0790-A607-4AFC-A4FC-A065FF0E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6149-B085-4084-AF90-AF19FC12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6EE8-9F1D-4BA1-A5B0-FC050A75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45C-A962-4B3D-A3E8-AD5A17CA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DCF-7CFC-4710-938E-C210B715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DBA-7DFD-4377-AA06-485D3B48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4CC-8A0C-40D9-956C-C49EA99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B40-B201-479D-B6A9-08DD4FA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97A-AFAA-45AF-B3EA-9C71A443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D54-CC82-41CC-9082-7F70B28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BDCB-8B82-4ADE-829B-17F1E61572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A063-F44A-418C-A9D9-FB61213258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e Smart!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Be Safe!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e Seen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2395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e Smart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 Be Seen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038480"/>
            <a:ext cx="154296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133720" y="2057400"/>
            <a:ext cx="1066680" cy="1943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5800" y="2057400"/>
            <a:ext cx="1120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5 children die of bicycle injuries every year in NZ!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540 will be hospitalised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200400" cy="2847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1120" y="2819520"/>
            <a:ext cx="4495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umber Injur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-4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247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5-9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1009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-14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1443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OY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id you know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41280" y="2057400"/>
            <a:ext cx="2310120" cy="3200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at you are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imes more likely to go to hospital with a cycle related injury the gir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2227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boys were injured in a 5 year period (2001-2005) compared with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913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gir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YS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early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imes as many boys are killed cycling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the 10 years 1993-2002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52 children were killed in NZ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43 were boys…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00"/>
                </a:solidFill>
                <a:latin typeface="Arial"/>
              </a:rPr>
              <a:t>9 were girl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162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are cycle related injuries?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Starship Hospital tracked cycle injuries over a 6 month perio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pper limb fractur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6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wer limb fractur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8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ace and neck injuri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4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ad injuri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bdominal injuri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9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ther-skin and lung injuri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d Injuries includ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kull frac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u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racranial inju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calp lacer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067200" cy="2666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ways wear your helmet when on your bik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aring a helmet reduces the risk of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rain injury by 88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ad injury by 85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re brain injury by at least 75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sons why kids don’t wear helmets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85680" y="1905120"/>
            <a:ext cx="328140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82880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obody gave me 1! 17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 don’t road in traffic. 15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nattractive. 5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 don’t ride often. 9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o expensive. 7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ncomfortable. 9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 took it off. 16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ot necessary. 21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ever thought about it. 22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2-4-1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91040" y="2419200"/>
            <a:ext cx="2838240" cy="2857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838760" cy="386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0:05:15Z</dcterms:created>
  <dc:creator>Educating NZ</dc:creator>
  <dc:description/>
  <dc:language>en-US</dc:language>
  <cp:lastModifiedBy>Educating NZ</cp:lastModifiedBy>
  <dcterms:modified xsi:type="dcterms:W3CDTF">2008-06-02T21:35:37Z</dcterms:modified>
  <cp:revision>4</cp:revision>
  <dc:subject/>
  <dc:title>Slide 1</dc:title>
</cp:coreProperties>
</file>